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67BF-4640-4C89-BF43-10B148FD7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34556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43E2F-4F9C-4306-BFAF-8EFE7D6A2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06A6-B267-451B-9900-F60CE8FAD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449AE-E95C-4754-B5C4-63E679ED51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4276-E138-4136-BD66-538E4E2B57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EF661-3EE5-4397-8196-96E1942DF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A221-984F-450C-8175-5D83E747B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6638-9618-49D3-9FD7-5BD073999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353440" cy="59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0D18-3A28-4715-88D4-D8A9D135F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84EEF-107A-42A6-AC3C-30A7AA783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BE3D-79C6-450C-A895-5F437F88B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2AD32-DBE8-4D8C-8104-F8A07E705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TOP09_sablona-PPT_1024x768_v1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69a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3640" y="6308280"/>
            <a:ext cx="75610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Georgia"/>
              </a:rPr>
              <a:t>Tento text upravíte v menu: Zobrazit / Záhlaví a zápatí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99280" y="6308280"/>
            <a:ext cx="7207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0D2D-CDF8-4CF2-B160-B4F8A37E768F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OP09_sablona-PPT_1024x768_v1-1"/>
          <p:cNvPicPr/>
          <p:nvPr/>
        </p:nvPicPr>
        <p:blipFill>
          <a:blip r:embed="rId1"/>
          <a:srcRect l="0" t="45813" r="0" b="0"/>
          <a:stretch/>
        </p:blipFill>
        <p:spPr>
          <a:xfrm>
            <a:off x="0" y="3141720"/>
            <a:ext cx="9140760" cy="371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TOP09_sablona-PPT_1024x768_v1-1"/>
          <p:cNvPicPr/>
          <p:nvPr/>
        </p:nvPicPr>
        <p:blipFill>
          <a:blip r:embed="rId2"/>
          <a:srcRect l="0" t="15225" r="0" b="455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3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C74B-7923-4251-9739-DE6528D0A7A9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" name="Picture 5" descr="TOP09_sablona-PPT_1024x768_v1-1"/>
          <p:cNvPicPr/>
          <p:nvPr/>
        </p:nvPicPr>
        <p:blipFill>
          <a:blip r:embed="rId3"/>
          <a:srcRect l="46080" t="0" r="0" b="0"/>
          <a:stretch/>
        </p:blipFill>
        <p:spPr>
          <a:xfrm>
            <a:off x="4214880" y="-1440"/>
            <a:ext cx="492912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320480"/>
            <a:ext cx="8353440" cy="2631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Zvýšení hospodárnosti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nakupování veřejného sektoru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v České republice</a:t>
            </a:r>
            <a:br>
              <a:rPr sz="3200"/>
            </a:br>
            <a:br>
              <a:rPr sz="3200"/>
            </a:br>
            <a:r>
              <a:rPr b="1" lang="cs-CZ" sz="4000" spc="-1" strike="noStrike">
                <a:solidFill>
                  <a:srgbClr val="c10065"/>
                </a:solidFill>
                <a:latin typeface="Georgia"/>
                <a:ea typeface="Arial"/>
              </a:rPr>
              <a:t>Hospodárnost na prvním místě </a:t>
            </a: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407628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Každá koruna hospodárně vynaložená veřejným sektorem může vést k lepší kvalitě života, vyšší zaměstnanosti, podpoře hospodářského růstu a konkurenceschopnosti českého průmyslu a stavebnictv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24000" y="6021360"/>
            <a:ext cx="4896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Zprovoznění systému centrálního zadávání v ČR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2204640"/>
            <a:ext cx="8353440" cy="4357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Hlavní přínos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ízké ceny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(nejen pro stát, ale i další veřejné zadavatele) založené na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množstevních slev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úspora transakčních nákladů veřejného za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automatická kontrola hospodárnosti nákupů veřejného sektoru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srovnání s referenčními cenami centrálního zadav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Obchodní model: provize z prodeje (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samofinancování z realizovaných úspor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ejvětší přínos: pro malé zadavatele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(zejména malé obce)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0546-45CB-4F3C-A1FD-E366C05543D2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7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On-line nástroj k ověření ce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tavebních prací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9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BB57-B90B-4459-810C-8686677A7E1D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1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12" name="Zástupný symbol pro obsah 2"/>
          <p:cNvSpPr/>
          <p:nvPr/>
        </p:nvSpPr>
        <p:spPr>
          <a:xfrm>
            <a:off x="468360" y="2276640"/>
            <a:ext cx="820728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Stavební zakázky tvoří </a:t>
            </a:r>
            <a:r>
              <a:rPr b="1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cca 50% finanční hodnoty všech veřejných zakázek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ČR 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zdroj: důvodová zpráva k novel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aložen na  stávajícím vládním návrhu na standardizaci výkazu výměru pro stavební zakázky 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nový § 44 odst. 4 (d) ZVZ)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, tj. …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…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avede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vinnosti podat nabídky pro stavební práce s využitím výkazu výměr ve standardizované elektronické podobě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Automatická kontrola výše jednotkových cen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ostřednictvím on-line webového nástroje nákladových analýz (předpoklad zajištění ze strany akademické a vědecké obce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Cíle věcných návrhů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 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14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360A-8EEE-4787-941F-857748FE7460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6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17" name="Zástupný symbol pro obsah 2"/>
          <p:cNvSpPr/>
          <p:nvPr/>
        </p:nvSpPr>
        <p:spPr>
          <a:xfrm>
            <a:off x="250920" y="2060640"/>
            <a:ext cx="86421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Hospodárná transparentnos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131436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soutěžního prostředí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prvků hospodárnost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Ohled na nejmenší zadavate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131436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Základ věcných návrhů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 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CA19-875A-468C-8C21-66818ED82AF9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22" name="Zástupný symbol pro obsah 2"/>
          <p:cNvSpPr/>
          <p:nvPr/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ávrh novely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dceňuje transakční náklad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, které některá opatření přinesou a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řeceňuje přímé úspor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Dle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studie EK z března 2011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-  náklady (veřejnéh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i soukromého sektoru) na zadávací řízení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   s hodnotou okolo 3 mil. Kč 18 až 29 % hodnoty zakázk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-  podíl transakčních nákladů cca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1,4% hodnoty všech zakázek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–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  v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ČR cca 8,4 miliardy Kč (25% veřejné, 75% soukromé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utnost střízlivého ekonomického pohledu na návrhy opatření (důsledky zejména pro MSP) – každý návrh musí být hodnocen z hlediska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účelnosti, účinnosti a hospodárnost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Vybrané věcné návrhy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00A4-E244-4524-A6D2-FB76B106F238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6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27" name="Zástupný symbol pro obsah 2"/>
          <p:cNvSpPr/>
          <p:nvPr/>
        </p:nvSpPr>
        <p:spPr>
          <a:xfrm>
            <a:off x="214200" y="220500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Zjednodušení administrace zadávacího řízení podlimitních veřejných zakázek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evracení kauce při zamítnutí návrhu ÚOHS                  v 1. instanc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avázání účinnosti smluv na zveřejnění uzavřené smlouvy (Slovensko),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příp. jiné obdobně účinné řešení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transparentnosti veřejných zakázek malého rozsahu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uveřejnění oznámení o úmyslu zadat VZ a údajů o vybraném dodavateli, vzorový předpis pro zadavatel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ke stanovení pravidel zadávání VZMR atd.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TOP09_sablona-PPT_1024x768_v1-1"/>
          <p:cNvPicPr/>
          <p:nvPr/>
        </p:nvPicPr>
        <p:blipFill>
          <a:blip r:embed="rId1"/>
          <a:srcRect l="0" t="45813" r="0" b="0"/>
          <a:stretch/>
        </p:blipFill>
        <p:spPr>
          <a:xfrm>
            <a:off x="0" y="3141720"/>
            <a:ext cx="9140760" cy="3716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TOP09_sablona-PPT_1024x768_v1-1"/>
          <p:cNvPicPr/>
          <p:nvPr/>
        </p:nvPicPr>
        <p:blipFill>
          <a:blip r:embed="rId2"/>
          <a:srcRect l="0" t="15225" r="0" b="2244"/>
          <a:stretch/>
        </p:blipFill>
        <p:spPr>
          <a:xfrm>
            <a:off x="0" y="0"/>
            <a:ext cx="9140760" cy="6597720"/>
          </a:xfrm>
          <a:prstGeom prst="rect">
            <a:avLst/>
          </a:prstGeom>
          <a:ln w="0">
            <a:noFill/>
          </a:ln>
        </p:spPr>
      </p:pic>
      <p:sp>
        <p:nvSpPr>
          <p:cNvPr id="13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FE79-BC5B-44DD-A309-8EAEE789F016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1" name="Picture 5" descr="TOP09_sablona-PPT_1024x768_v1-1"/>
          <p:cNvPicPr/>
          <p:nvPr/>
        </p:nvPicPr>
        <p:blipFill>
          <a:blip r:embed="rId3"/>
          <a:srcRect l="46080" t="0" r="0" b="0"/>
          <a:stretch/>
        </p:blipFill>
        <p:spPr>
          <a:xfrm>
            <a:off x="4211640" y="0"/>
            <a:ext cx="4929120" cy="6859440"/>
          </a:xfrm>
          <a:prstGeom prst="rect">
            <a:avLst/>
          </a:prstGeom>
          <a:ln w="0">
            <a:noFill/>
          </a:ln>
        </p:spPr>
      </p:pic>
      <p:sp>
        <p:nvSpPr>
          <p:cNvPr id="132" name="Nadpis 1"/>
          <p:cNvSpPr/>
          <p:nvPr/>
        </p:nvSpPr>
        <p:spPr>
          <a:xfrm>
            <a:off x="428760" y="3357720"/>
            <a:ext cx="83534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Děkujeme za pozornost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 rot="20393400">
            <a:off x="492120" y="1703160"/>
            <a:ext cx="2651040" cy="3098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Proč hospodárnost veřejného nakupování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5084640"/>
            <a:ext cx="8353440" cy="115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Jde o „nemandatorní“ výda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Cíl: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kvalita těchto výdajů by měla být co možná nejvyšš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4B34-3F9B-4B7E-BE62-1219A1A0FC34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bdélník 1"/>
          <p:cNvSpPr/>
          <p:nvPr/>
        </p:nvSpPr>
        <p:spPr>
          <a:xfrm>
            <a:off x="3635280" y="2817720"/>
            <a:ext cx="4753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a7c54"/>
                </a:solidFill>
                <a:latin typeface="Georgia"/>
              </a:rPr>
              <a:t>cca 600 mld. Kč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a7c54"/>
                </a:solidFill>
                <a:latin typeface="Georgia"/>
              </a:rPr>
              <a:t>cca 17% HDP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" name="Obrázek 6" descr="stan.gif"/>
          <p:cNvPicPr/>
          <p:nvPr/>
        </p:nvPicPr>
        <p:blipFill>
          <a:blip r:embed="rId3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BDE8-14D2-4E4E-9671-F92167C20640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560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Jak na to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2060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Třikrát přemýšlej než jednou zadáš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Hospodárnost ve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šech fázích veřejného nakup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Důraz na optimální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měr užitné hodnoty a nákladů –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souzení ekonomických přínosů a nákladů životního cyklu, které splňuj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iměřené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třeby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uži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íklad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„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H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ummerů pro městskou policii“ není přiměřenou potře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levného zboží s krátkou životností (např.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levn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é cvičky) není obvykle hospodá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Výběr architekta jen podle kritéria nejnižší ceny není hospodá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B444-0AD9-4AA6-9108-1DD5D42D4634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560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Jak hospodárně zadávat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pic>
        <p:nvPicPr>
          <p:cNvPr id="63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457280" y="1419120"/>
            <a:ext cx="275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" name="Picture 71" descr=""/>
          <p:cNvPicPr/>
          <p:nvPr/>
        </p:nvPicPr>
        <p:blipFill>
          <a:blip r:embed="rId3"/>
          <a:stretch/>
        </p:blipFill>
        <p:spPr>
          <a:xfrm>
            <a:off x="892080" y="2492280"/>
            <a:ext cx="7359840" cy="4111560"/>
          </a:xfrm>
          <a:prstGeom prst="rect">
            <a:avLst/>
          </a:prstGeom>
          <a:ln w="0">
            <a:noFill/>
          </a:ln>
        </p:spPr>
      </p:pic>
      <p:sp>
        <p:nvSpPr>
          <p:cNvPr id="66" name="Line 13"/>
          <p:cNvSpPr/>
          <p:nvPr/>
        </p:nvSpPr>
        <p:spPr>
          <a:xfrm>
            <a:off x="1692360" y="537372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2987640" y="55166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 Á K L A D 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684360" y="2276640"/>
            <a:ext cx="576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Line 17"/>
          <p:cNvSpPr/>
          <p:nvPr/>
        </p:nvSpPr>
        <p:spPr>
          <a:xfrm flipV="1">
            <a:off x="1476360" y="234900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jekt „Hospodárnost                                  na prvním místě“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2133720"/>
            <a:ext cx="8353440" cy="3155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Dlouhodobý projekt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ipravovaný v kontextu novelizace zákona o veřejných zakázkách (ZV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Bude obsahovat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ěcné návrhy opatření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Krátkodobé  (1 rok) – do 31.12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třednědobé (2-3 roky) – do 30.6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Dlouhodobé (5 let) – do 31.12.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plném rozsahu bude 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ojekt představen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říjnu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C5E9-CB57-4A10-8A14-4B0C826B83A2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ystémová podpora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a koordinace dobré praxe (1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ovela zákona o veřejných zakázek objektivně nemůže vyřešit všechny problémy veřejného nakupování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Musí být doplněna o komplexní řešení v rámci celého veřejného nakupování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astavení dobrých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smluvních standar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Vytvoření a vynucování plnění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ekonomických standardů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ro měření ekonomických přínosů a nákladů nákup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dpora dobrých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technických standardů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(šetřících náklad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v životním cyk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sílení kvalitního a systémového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projektového řízení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(nákupy realizované v předpokládaném čase a dle stanoveného rozpočt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CB03-B3DA-4F5A-92B4-98A4FDC30C88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353440" cy="1047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ystémová podpora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a koordinace dobré praxe (2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2205000"/>
            <a:ext cx="874872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Tři hlavní navrhované nástro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1. Zavede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„procesu bran“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a posílení osobní odpovědnos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každý větší nákup kontrolován v kritických fázích nákupního cyk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 jednoznačnou individuální odpovědností tzv. odpovědné osob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pro každý ná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2.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provoznění systému centrálního zadávání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obdobné řešení jako ve Velké Británii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Government Procurement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Service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, Rakousku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undebeschaffung GmbH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 či v Německu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Geschäftsstelle Kaufhaus des Bundes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3. On-line webový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ástroj k ověření cen stavebních prac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ECE9-5AD4-4B59-93E2-3ABC1191AA4B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3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84" name="Zástupný symbol pro obsah 2"/>
          <p:cNvSpPr/>
          <p:nvPr/>
        </p:nvSpPr>
        <p:spPr>
          <a:xfrm>
            <a:off x="395280" y="2349360"/>
            <a:ext cx="83534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5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924360" cy="2644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ces bran a důsledná individuální odpovědnost (1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7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E309-45E2-4BE3-8392-C56D1C90BC15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9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90" name="Zástupný symbol pro obsah 2"/>
          <p:cNvSpPr/>
          <p:nvPr/>
        </p:nvSpPr>
        <p:spPr>
          <a:xfrm>
            <a:off x="395280" y="1766880"/>
            <a:ext cx="83534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incip nezávislé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„kontroly čtyř očí“ v kritických fázích nákupního cyklu: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„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(projekt) může jít dál, jen pokud projde branou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edpoklad 4 bran pro významné VZ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(ve smyslu návrhu novely ZVZ)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1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Záměr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2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Projek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3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Výběr dodavatel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4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Audi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8AB1-0B7C-42AA-BE90-A1E156C718A2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" name="Obrázek 6" descr="stan.gif"/>
          <p:cNvPicPr/>
          <p:nvPr/>
        </p:nvPicPr>
        <p:blipFill>
          <a:blip r:embed="rId3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grpSp>
        <p:nvGrpSpPr>
          <p:cNvPr id="93" name="Skupina 2"/>
          <p:cNvGrpSpPr/>
          <p:nvPr/>
        </p:nvGrpSpPr>
        <p:grpSpPr>
          <a:xfrm>
            <a:off x="3419640" y="5877000"/>
            <a:ext cx="2885760" cy="520200"/>
            <a:chOff x="3419640" y="5877000"/>
            <a:chExt cx="2885760" cy="520200"/>
          </a:xfrm>
        </p:grpSpPr>
        <p:sp>
          <p:nvSpPr>
            <p:cNvPr id="94" name="Text Box 19"/>
            <p:cNvSpPr/>
            <p:nvPr/>
          </p:nvSpPr>
          <p:spPr>
            <a:xfrm>
              <a:off x="3419640" y="5877000"/>
              <a:ext cx="1936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cc0099"/>
                  </a:solidFill>
                  <a:latin typeface="Arial"/>
                </a:rPr>
                <a:t>B3: Před výběrem dodavatele</a:t>
              </a:r>
              <a:endParaRPr b="0" lang="en-US" sz="1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" name="AutoShape 21"/>
            <p:cNvSpPr/>
            <p:nvPr/>
          </p:nvSpPr>
          <p:spPr>
            <a:xfrm>
              <a:off x="5513400" y="6002280"/>
              <a:ext cx="792000" cy="311040"/>
            </a:xfrm>
            <a:prstGeom prst="rightArrow">
              <a:avLst>
                <a:gd name="adj1" fmla="val 50000"/>
                <a:gd name="adj2" fmla="val 52529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transition>
    <p:strips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ces bran a důsledná individuální odpovědnost (2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97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D127-580D-4963-A712-79B5FAACB9D7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9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00" name="Zástupný symbol pro obsah 2"/>
          <p:cNvSpPr/>
          <p:nvPr/>
        </p:nvSpPr>
        <p:spPr>
          <a:xfrm>
            <a:off x="395280" y="1916280"/>
            <a:ext cx="8353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Jmenová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oponentů nákupů v jednotlivých branách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(garance nezávislosti) - předpoklad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část NKÚ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část vláda Č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Osobní odpovědnost tzv.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odpovědných osob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fyzických osob)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 jako nositelů odpovědnosti za konkrétní nákup „od začátku do konce“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5B30-DC23-4EC6-8DFE-385F233288F2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2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8:37:12Z</dcterms:created>
  <dc:creator>STAN</dc:creator>
  <dc:description/>
  <dc:language>en-US</dc:language>
  <cp:lastModifiedBy>JiriVanek</cp:lastModifiedBy>
  <dcterms:modified xsi:type="dcterms:W3CDTF">2011-08-23T11:34:36Z</dcterms:modified>
  <cp:revision>85</cp:revision>
  <dc:subject/>
  <dc:title>Zvýšení hospodárnosti nakupování veřejného sektoru v České republice  Hospodárnost na prvním místě</dc:title>
</cp:coreProperties>
</file>