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DE08-0DA7-4A3A-93C2-CABBB9A28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343A3-730F-4BCA-AF7B-579432744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BAE8-EBA0-4D56-816C-55A8F75D4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C779-4EFE-4B6F-8201-47B210B63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6490-A5BF-4094-958C-096B8A8585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40D0-9501-4EE4-A910-DE4E71A65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D165-B102-41F1-9E9D-3557770E7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B551-1DCD-409F-9D37-E1A38E7DF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353440" cy="59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0BAD-4D85-4794-BAC2-8E5984FD5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3168-190A-46A9-BA5D-566D47A2E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38B5-885C-46DD-8D27-368CD40F8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1C8D-FCB2-4006-B5A3-94E955685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TOP09_sablona-PPT_1024x768_v1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69a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3640" y="6308280"/>
            <a:ext cx="7561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Georgia"/>
              </a:rPr>
              <a:t>Tento text upravíte v menu: Zobrazit / Záhlaví a zápatí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99280" y="6308280"/>
            <a:ext cx="7207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650B-1BD7-4470-A61D-3FBB90084E9B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TOP09_sablona-PPT_1024x768_v1-1"/>
          <p:cNvPicPr/>
          <p:nvPr/>
        </p:nvPicPr>
        <p:blipFill>
          <a:blip r:embed="rId2"/>
          <a:srcRect l="0" t="15225" r="0" b="455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B459-7B52-4157-8AA5-A8D611914E2A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4880" y="-144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20480"/>
            <a:ext cx="8353440" cy="2631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Zvýšení hospodárnosti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nakupování veřejného sektoru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v České republice</a:t>
            </a:r>
            <a:br>
              <a:rPr sz="3200"/>
            </a:br>
            <a:br>
              <a:rPr sz="3200"/>
            </a:br>
            <a:r>
              <a:rPr b="1" lang="cs-CZ" sz="4000" spc="-1" strike="noStrike">
                <a:solidFill>
                  <a:srgbClr val="c10065"/>
                </a:solidFill>
                <a:latin typeface="Georgia"/>
                <a:ea typeface="Arial"/>
              </a:rPr>
              <a:t>Hospodárnost na prvním místě 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407628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á koruna hospodárně vynaložená veřejným sektorem může vést k lepší kvalitě života, vyšší zaměstnanosti, podpoře hospodářského růstu a konkurenceschopnosti českého průmyslu a stavebnictv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24000" y="6021360"/>
            <a:ext cx="4896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provoznění systému centrálního zadávání v ČR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2204640"/>
            <a:ext cx="8353440" cy="4357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lavní přínos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ízké ceny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(nejen pro stát, ale i další veřejné zadavatele) založené n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množstevních slev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úspora transakčních nákladů veřejného za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hospodárnosti nákupů veřejného sektoru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srovnání s referenčními cenami centrálního zadav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bchodní model: provize z prodeje (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amofinancování z realizovaných úspor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ejvětší přínos: pro malé zadavatel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zejména malé obce)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091E-C206-46CB-88AA-AE6D7B6D2280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7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On-line nástroj k ověření ce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tavebních prací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DCA3-41B3-48DC-A222-24D76A077835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Zástupný symbol pro obsah 2"/>
          <p:cNvSpPr/>
          <p:nvPr/>
        </p:nvSpPr>
        <p:spPr>
          <a:xfrm>
            <a:off x="468360" y="2276640"/>
            <a:ext cx="82072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tavební zakázky tvoří </a:t>
            </a:r>
            <a:r>
              <a:rPr b="1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ca 50% finanční hodnoty všech veřejných zakázek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ČR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zdroj: důvodová zpráva k nove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ložen na  stávajícím vládním návrhu na standardizaci výkazu výměru pro stavební zakázky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nový § 44 odst. 4 (d) ZVZ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, tj. …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…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vinnosti podat nabídky pro stavební práce s využitím výkazu výměr ve standardizované elektronické podobě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výše jednotkových cen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střednictvím on-line webového nástroje nákladových analýz (předpoklad zajištění ze strany akademické a vědecké obce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Cíle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6977-E35D-41C5-A34C-E739B4CDCDE3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7" name="Zástupný symbol pro obsah 2"/>
          <p:cNvSpPr/>
          <p:nvPr/>
        </p:nvSpPr>
        <p:spPr>
          <a:xfrm>
            <a:off x="250920" y="2060640"/>
            <a:ext cx="86421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Hospodárná transparentnos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soutěžního prostřed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prvků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hled na nejmenší zadavate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áklad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BC44-D288-44DA-96D0-454722EEFA9E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obsah 2"/>
          <p:cNvSpPr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ávrh novely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dceňuje transakční ná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které některá opatření přinesou 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řeceňuje přímé úspor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l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tudie EK z března 2011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náklady (veřejnéh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i soukromého sektoru) na zadávací řízení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 s hodnotou okolo 3 mil. Kč 18 až 29 % hodnoty zakázk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podíl transakčních nákladů cc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1,4% hodnoty všech zakázek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–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v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ČR cca 8,4 miliardy Kč (25% veřejné, 75% soukromé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utnost střízlivého ekonomického pohledu na návrhy opatření (důsledky zejména pro MSP) – každý návrh musí být hodnocen z hledisk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účelnosti, účinnosti a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Vybrané věcné návrhy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C2FF-0AEA-4B26-BE22-F0444EFE8733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7" name="Zástupný symbol pro obsah 2"/>
          <p:cNvSpPr/>
          <p:nvPr/>
        </p:nvSpPr>
        <p:spPr>
          <a:xfrm>
            <a:off x="214200" y="220500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Zjednodušení administrace zadávacího řízení podlimitních veřejných zakáze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evracení kauce při zamítnutí návrhu ÚOHS                  v 1. instanc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avázání účinnosti smluv na zveřejnění uzavřené smlouvy (Slovensko),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říp. jiné obdobně účinné řešen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transparentnosti veřejných zakázek malého rozsahu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uveřejnění oznámení o úmyslu zadat VZ a údajů o vybraném dodavateli, vzorový předpis pro zadavatel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e stanovení pravidel zadávání VZMR atd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TOP09_sablona-PPT_1024x768_v1-1"/>
          <p:cNvPicPr/>
          <p:nvPr/>
        </p:nvPicPr>
        <p:blipFill>
          <a:blip r:embed="rId2"/>
          <a:srcRect l="0" t="15225" r="0" b="2244"/>
          <a:stretch/>
        </p:blipFill>
        <p:spPr>
          <a:xfrm>
            <a:off x="0" y="0"/>
            <a:ext cx="9140760" cy="65977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8DD7-ADF6-468F-A981-CB404203E6A8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1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1640" y="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428760" y="3357720"/>
            <a:ext cx="8353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Děkujeme za pozornost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 rot="20393400">
            <a:off x="492120" y="1703160"/>
            <a:ext cx="2651040" cy="3098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Proč hospodárnost veřejného nakupování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508464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de o „nemandatorní“ výd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íl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kvalita těchto výdajů by měla být co možná nejvyšš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9B9E-CAEC-43DD-997E-D70193D5B32E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1"/>
          <p:cNvSpPr/>
          <p:nvPr/>
        </p:nvSpPr>
        <p:spPr>
          <a:xfrm>
            <a:off x="3635280" y="2817720"/>
            <a:ext cx="4753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600 mld. Kč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17% HDP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D622-7441-4CA8-A62C-4036439E3895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na to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2060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krát přemýšlej než jednou zadáš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ospodárnost v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šech fázích veřejného nakup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ůraz na optimální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měr užitné hodnoty a nákladů –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souzení ekonomických přínosů a nákladů životního cyklu, které splňuj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měřené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třeby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í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„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ummerů pro městskou policii“ není přiměřenou potře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levného zboží s krátkou životností (např.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levn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é cvičky) není obvykle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Výběr architekta jen podle kritéria nejnižší ceny není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B0A6-2571-4494-BFEE-B9A0B167D5DB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hospodárně zadávat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pic>
        <p:nvPicPr>
          <p:cNvPr id="63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457280" y="141912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" name="Picture 71" descr=""/>
          <p:cNvPicPr/>
          <p:nvPr/>
        </p:nvPicPr>
        <p:blipFill>
          <a:blip r:embed="rId3"/>
          <a:stretch/>
        </p:blipFill>
        <p:spPr>
          <a:xfrm>
            <a:off x="892080" y="2492280"/>
            <a:ext cx="7359840" cy="4111560"/>
          </a:xfrm>
          <a:prstGeom prst="rect">
            <a:avLst/>
          </a:prstGeom>
          <a:ln w="0">
            <a:noFill/>
          </a:ln>
        </p:spPr>
      </p:pic>
      <p:sp>
        <p:nvSpPr>
          <p:cNvPr id="66" name="Line 13"/>
          <p:cNvSpPr/>
          <p:nvPr/>
        </p:nvSpPr>
        <p:spPr>
          <a:xfrm>
            <a:off x="1692360" y="53737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2987640" y="55166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 Á K L A D 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84360" y="2276640"/>
            <a:ext cx="576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Line 17"/>
          <p:cNvSpPr/>
          <p:nvPr/>
        </p:nvSpPr>
        <p:spPr>
          <a:xfrm flipV="1">
            <a:off x="1476360" y="234900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jekt „Hospodárnost                                  na prvním místě“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2133720"/>
            <a:ext cx="8353440" cy="3155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ý projekt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pravovaný v kontextu novelizace zákona o veřejných zakázkách (ZV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Bude obsahovat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ěcné návrhy opatřen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rátkodobé  (1 rok) – do 31.12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třednědobé (2-3 roky) – do 30.6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é (5 let) – do 31.12.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plném rozsahu bude 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jekt představen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říjnu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B560-BB30-4EB2-8C66-9454B0B85C4A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ovela zákona o veřejných zakázek objektivně nemůže vyřešit všechny problémy veřejného nakupo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Musí být doplněna o komplexní řešení v rámci celého veřejného nakupování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astavení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smluvních standar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ytvoření a vynucování plnění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ekonom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ro měření ekonomických přínosů a nákladů nákup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dpora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techn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šetřících náklad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 životním cyk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sílení kvalitního a systémového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projektového řízení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nákupy realizované v předpokládaném čase a dle stanoveného rozpočt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C256-0953-4818-AD86-AD5995E7D930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353440" cy="1047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220500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 hlavní navrhované nást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1. 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procesu bran“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a posílení osobní odpovědno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ý větší nákup kontrolován v kritických fázích nákupního cyk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 jednoznačnou individuální odpovědností tzv. odpovědné osob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pro každý ná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2.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provoznění systému centrálního zadá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obdobné řešení jako ve Velké Británii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overnment Procurement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Service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, Rakousku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undebeschaffung Gmb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 či v Němec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eschäftsstelle Kaufhaus des Bundes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3. On-line webový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stroj k ověření cen stavebních pra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ADF1-A658-4009-A2A7-CCB3BBB15FD5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3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Zástupný symbol pro obsah 2"/>
          <p:cNvSpPr/>
          <p:nvPr/>
        </p:nvSpPr>
        <p:spPr>
          <a:xfrm>
            <a:off x="395280" y="2349360"/>
            <a:ext cx="8353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5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924360" cy="2644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0478-4D0A-4B2F-B67E-FD1F50DE7E2E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90" name="Zástupný symbol pro obsah 2"/>
          <p:cNvSpPr/>
          <p:nvPr/>
        </p:nvSpPr>
        <p:spPr>
          <a:xfrm>
            <a:off x="395280" y="1766880"/>
            <a:ext cx="83534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incip nezávislé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kontroly čtyř očí“ v kritických fázích nákupního cyklu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„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(projekt) může jít dál, jen pokud projde branou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edpoklad 4 bran pro významné V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(ve smyslu návrhu novely ZVZ)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1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Zámě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2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Projek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3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Výběr dodavatel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4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Audi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FF7D-3EDA-4A20-9B0C-4F47EBC0F9E9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grpSp>
        <p:nvGrpSpPr>
          <p:cNvPr id="93" name="Skupina 2"/>
          <p:cNvGrpSpPr/>
          <p:nvPr/>
        </p:nvGrpSpPr>
        <p:grpSpPr>
          <a:xfrm>
            <a:off x="3419640" y="5877000"/>
            <a:ext cx="2885760" cy="520200"/>
            <a:chOff x="3419640" y="5877000"/>
            <a:chExt cx="2885760" cy="520200"/>
          </a:xfrm>
        </p:grpSpPr>
        <p:sp>
          <p:nvSpPr>
            <p:cNvPr id="94" name="Text Box 19"/>
            <p:cNvSpPr/>
            <p:nvPr/>
          </p:nvSpPr>
          <p:spPr>
            <a:xfrm>
              <a:off x="3419640" y="5877000"/>
              <a:ext cx="193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cc0099"/>
                  </a:solidFill>
                  <a:latin typeface="Arial"/>
                </a:rPr>
                <a:t>B3: Před výběrem dodavatele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" name="AutoShape 21"/>
            <p:cNvSpPr/>
            <p:nvPr/>
          </p:nvSpPr>
          <p:spPr>
            <a:xfrm>
              <a:off x="5513400" y="6002280"/>
              <a:ext cx="792000" cy="311040"/>
            </a:xfrm>
            <a:prstGeom prst="rightArrow">
              <a:avLst>
                <a:gd name="adj1" fmla="val 50000"/>
                <a:gd name="adj2" fmla="val 52529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strips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9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4506-A30A-4324-994A-F0296D737F87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9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Zástupný symbol pro obsah 2"/>
          <p:cNvSpPr/>
          <p:nvPr/>
        </p:nvSpPr>
        <p:spPr>
          <a:xfrm>
            <a:off x="395280" y="1916280"/>
            <a:ext cx="8353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menová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ponentů nákupů v jednotlivých branách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garance nezávislosti) - předpoklad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NK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vláda Č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Osobní odpovědnost tzv.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dpovědných osob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fyzických osob)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 jako nositelů odpovědnosti za konkrétní nákup „od začátku do konce“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ED7F-B3C9-4311-9F3D-8AE26C95B519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8:37:12Z</dcterms:created>
  <dc:creator>STAN</dc:creator>
  <dc:description/>
  <dc:language>en-US</dc:language>
  <cp:lastModifiedBy>JiriVanek</cp:lastModifiedBy>
  <dcterms:modified xsi:type="dcterms:W3CDTF">2011-08-23T11:34:36Z</dcterms:modified>
  <cp:revision>85</cp:revision>
  <dc:subject/>
  <dc:title>Zvýšení hospodárnosti nakupování veřejného sektoru v České republice  Hospodárnost na prvním místě</dc:title>
</cp:coreProperties>
</file>