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C40B4-EE40-4213-AC6F-0506827E3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DBE2-DAE1-4EAE-9B97-C2433EE2F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877B-D5EA-42FB-A26C-0C2C082E5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227664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345560"/>
            <a:ext cx="268956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6335-4FEA-4FCF-B1B6-62737451B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50CB-5D7D-4E5B-ABB0-0EF3346DC3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2412-C8C7-486A-921A-DFB5EF043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8FC0-F6E7-4CCB-83B0-64D2F790B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DF0C-6327-4200-A7B6-6B010F38C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353440" cy="59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4827-61E9-436C-BF12-7BB7DDD66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B6F2-0960-44CA-A8AB-F43FF2A02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34556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E599-B963-48CA-94E0-4DFF3EA02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2276640"/>
            <a:ext cx="407628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353440" cy="188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9480-C4C1-4BDF-9CE4-4A7C9FACB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TOP09_sablona-PPT_1024x768_v1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1292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69a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3640" y="6308280"/>
            <a:ext cx="7561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Georgia"/>
              </a:rPr>
              <a:t>Tento text upravíte v menu: Zobrazit / Záhlaví a zápatí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99280" y="6308280"/>
            <a:ext cx="7207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ECC9-9971-4811-BEF3-51DD1A02FE9A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TOP09_sablona-PPT_1024x768_v1-1"/>
          <p:cNvPicPr/>
          <p:nvPr/>
        </p:nvPicPr>
        <p:blipFill>
          <a:blip r:embed="rId2"/>
          <a:srcRect l="0" t="15225" r="0" b="455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4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5227-BC32-4193-9DCC-F07FA5BD1486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4880" y="-144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20480"/>
            <a:ext cx="8353440" cy="2631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Zvýšení hospodárnosti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nakupování veřejného sektoru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v České republice</a:t>
            </a:r>
            <a:br>
              <a:rPr sz="3200"/>
            </a:br>
            <a:br>
              <a:rPr sz="3200"/>
            </a:br>
            <a:r>
              <a:rPr b="1" lang="cs-CZ" sz="4000" spc="-1" strike="noStrike">
                <a:solidFill>
                  <a:srgbClr val="c10065"/>
                </a:solidFill>
                <a:latin typeface="Georgia"/>
                <a:ea typeface="Arial"/>
              </a:rPr>
              <a:t>Hospodárnost na prvním místě </a:t>
            </a:r>
            <a:endParaRPr b="0" lang="en-US" sz="40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407628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á koruna hospodárně vynaložená veřejným sektorem může vést k lepší kvalitě života, vyšší zaměstnanosti, podpoře hospodářského růstu a konkurenceschopnosti českého průmyslu a stavebnictv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24000" y="6021360"/>
            <a:ext cx="4896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provoznění systému centrálního zadávání v ČR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2204640"/>
            <a:ext cx="8353440" cy="4357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lavní přínos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ízké ceny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(nejen pro stát, ale i další veřejné zadavatele) založené n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množstevních slev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úspora transakčních nákladů veřejného za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hospodárnosti nákupů veřejného sektoru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srovnání s referenčními cenami centrálního zadav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bchodní model: provize z prodeje (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amofinancování z realizovaných úspor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ejvětší přínos: pro malé zadavatele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zejména malé obce)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F95C-E5E8-4A95-99E9-06ADAE38D93A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7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On-line nástroj k ověření ce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tavebních prací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0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6F6F-0E08-4D2E-832A-7EF4EEF559E3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Zástupný symbol pro obsah 2"/>
          <p:cNvSpPr/>
          <p:nvPr/>
        </p:nvSpPr>
        <p:spPr>
          <a:xfrm>
            <a:off x="468360" y="2276640"/>
            <a:ext cx="82072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Stavební zakázky tvoří </a:t>
            </a:r>
            <a:r>
              <a:rPr b="1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ca 50% finanční hodnoty všech veřejných zakázek 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ČR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zdroj: důvodová zpráva k nove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ložen na  stávajícím vládním návrhu na standardizaci výkazu výměru pro stavební zakázky </a:t>
            </a:r>
            <a:r>
              <a:rPr b="0" i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(nový § 44 odst. 4 (d) ZVZ)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, tj. …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…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vinnosti podat nabídky pro stavební práce s využitím výkazu výměr ve standardizované elektronické podobě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Automatická kontrola výše jednotkových cen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střednictvím on-line webového nástroje nákladových analýz (předpoklad zajištění ze strany akademické a vědecké obce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Cíle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D55E-3F2D-417E-A9E6-8D1682596844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17" name="Zástupný symbol pro obsah 2"/>
          <p:cNvSpPr/>
          <p:nvPr/>
        </p:nvSpPr>
        <p:spPr>
          <a:xfrm>
            <a:off x="250920" y="2060640"/>
            <a:ext cx="86421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Hospodárná transparentnos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soutěžního prostřed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prvků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hled na nejmenší zadavatel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131436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Základ věcných návrhů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 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37B3-3936-4F83-9AF9-A874B3E5F23D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obsah 2"/>
          <p:cNvSpPr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ávrh novely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dceňuje transakční ná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, které některá opatření přinesou 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řeceňuje přímé úspor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Dl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studie EK z března 2011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náklady (veřejnéh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i soukromého sektoru) na zadávací řízení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 s hodnotou okolo 3 mil. Kč 18 až 29 % hodnoty zakázk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-  podíl transakčních nákladů cca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1,4% hodnoty všech zakázek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–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  v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ČR cca 8,4 miliardy Kč (25% veřejné, 75% soukromé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Nutnost střízlivého ekonomického pohledu na návrhy opatření (důsledky zejména pro MSP) – každý návrh musí být hodnocen z hlediska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účelnosti, účinnosti a hospodárnost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907560"/>
            <a:ext cx="871380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Vybrané věcné návrhy změn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k návrhu novely ZVZ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3D62-E4A8-439B-A4BD-F2142EC5C0EC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27" name="Zástupný symbol pro obsah 2"/>
          <p:cNvSpPr/>
          <p:nvPr/>
        </p:nvSpPr>
        <p:spPr>
          <a:xfrm>
            <a:off x="214200" y="220500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Zjednodušení administrace zadávacího řízení podlimitních veřejných zakáze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evracení kauce při zamítnutí návrhu ÚOHS                  v 1. instanc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avázání účinnosti smluv na zveřejnění uzavřené smlouvy (Slovensko),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příp. jiné obdobně účinné řešení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Posílení transparentnosti veřejných zakázek malého rozsahu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uveřejnění oznámení o úmyslu zadat VZ a údajů o vybraném dodavateli, vzorový předpis pro zadavatel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ke stanovení pravidel zadávání VZMR atd.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TOP09_sablona-PPT_1024x768_v1-1"/>
          <p:cNvPicPr/>
          <p:nvPr/>
        </p:nvPicPr>
        <p:blipFill>
          <a:blip r:embed="rId1"/>
          <a:srcRect l="0" t="45813" r="0" b="0"/>
          <a:stretch/>
        </p:blipFill>
        <p:spPr>
          <a:xfrm>
            <a:off x="0" y="3141720"/>
            <a:ext cx="9140760" cy="3716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TOP09_sablona-PPT_1024x768_v1-1"/>
          <p:cNvPicPr/>
          <p:nvPr/>
        </p:nvPicPr>
        <p:blipFill>
          <a:blip r:embed="rId2"/>
          <a:srcRect l="0" t="15225" r="0" b="2244"/>
          <a:stretch/>
        </p:blipFill>
        <p:spPr>
          <a:xfrm>
            <a:off x="0" y="0"/>
            <a:ext cx="9140760" cy="65977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906E-FA2E-4480-B2BD-E784F7B02FD9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1" name="Picture 5" descr="TOP09_sablona-PPT_1024x768_v1-1"/>
          <p:cNvPicPr/>
          <p:nvPr/>
        </p:nvPicPr>
        <p:blipFill>
          <a:blip r:embed="rId3"/>
          <a:srcRect l="46080" t="0" r="0" b="0"/>
          <a:stretch/>
        </p:blipFill>
        <p:spPr>
          <a:xfrm>
            <a:off x="4211640" y="0"/>
            <a:ext cx="4929120" cy="685944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428760" y="3357720"/>
            <a:ext cx="83534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Děkujeme za pozornost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 rot="20393400">
            <a:off x="492120" y="1703160"/>
            <a:ext cx="2651040" cy="3098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  <a:ea typeface="Arial"/>
              </a:rPr>
              <a:t>Proč hospodárnost veřejného nakupování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508464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de o „nemandatorní“ výd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Cíl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kvalita těchto výdajů by měla být co možná nejvyšš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E8C1-8B53-4F59-A512-034A21C70E16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1"/>
          <p:cNvSpPr/>
          <p:nvPr/>
        </p:nvSpPr>
        <p:spPr>
          <a:xfrm>
            <a:off x="3635280" y="2817720"/>
            <a:ext cx="4753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600 mld. Kč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a7c54"/>
                </a:solidFill>
                <a:latin typeface="Georgia"/>
              </a:rPr>
              <a:t>cca 17% HDP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7848-66A0-4C25-A1E8-F33B181D317D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na to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2060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krát přemýšlej než jednou zadáš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Hospodárnost ve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šech fázích veřejného nakup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ůraz na optimální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měr užitné hodnoty a nákladů –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souzení ekonomických přínosů a nákladů životního cyklu, které splňuj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měřené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otřeby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íklady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„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ummerů pro městskou policii“ není přiměřenou potře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levného zboží s krátkou životností (např.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levn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é cvičky) není obvykle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Výběr architekta jen podle kritéria nejnižší ceny není hospodá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C5A7-89AD-4E40-9774-64E2E366B858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560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Jak hospodárně zadávat?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pic>
        <p:nvPicPr>
          <p:cNvPr id="63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457280" y="141912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" name="Picture 71" descr=""/>
          <p:cNvPicPr/>
          <p:nvPr/>
        </p:nvPicPr>
        <p:blipFill>
          <a:blip r:embed="rId3"/>
          <a:stretch/>
        </p:blipFill>
        <p:spPr>
          <a:xfrm>
            <a:off x="892080" y="2492280"/>
            <a:ext cx="7359840" cy="4111560"/>
          </a:xfrm>
          <a:prstGeom prst="rect">
            <a:avLst/>
          </a:prstGeom>
          <a:ln w="0">
            <a:noFill/>
          </a:ln>
        </p:spPr>
      </p:pic>
      <p:sp>
        <p:nvSpPr>
          <p:cNvPr id="66" name="Line 13"/>
          <p:cNvSpPr/>
          <p:nvPr/>
        </p:nvSpPr>
        <p:spPr>
          <a:xfrm>
            <a:off x="1692360" y="53737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2987640" y="551664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 Á K L A D 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84360" y="2276640"/>
            <a:ext cx="576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Line 17"/>
          <p:cNvSpPr/>
          <p:nvPr/>
        </p:nvSpPr>
        <p:spPr>
          <a:xfrm flipV="1">
            <a:off x="1476360" y="234900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jekt „Hospodárnost                                  na prvním místě“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2133720"/>
            <a:ext cx="8353440" cy="3155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ý projekt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ipravovaný v kontextu novelizace zákona o veřejných zakázkách (ZV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Bude obsahovat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ěcné návrhy opatřen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rátkodobé  (1 rok) – do 31.12.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třednědobé (2-3 roky) – do 30.6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Dlouhodobé (5 let) – do 31.12.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plném rozsahu bude 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ojekt představen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v říjnu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202A-F7A7-40A7-9F6D-2ADA1F62502F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227664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Novela zákona o veřejných zakázek objektivně nemůže vyřešit všechny problémy veřejného nakupo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Musí být doplněna o komplexní řešení v rámci celého veřejného nakupování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astavení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smluvních standar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ytvoření a vynucování plnění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ekonom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ro měření ekonomických přínosů a nákladů nákup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dpora dobrých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technických standardů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šetřících náklad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v životním cyk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Posílení kvalitního a systémového 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</a:rPr>
              <a:t>projektového řízení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 (nákupy realizované v předpokládaném čase a dle stanoveného rozpočt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5204-ED04-4AA2-92B7-B92CA6E56000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353440" cy="1047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Systémová podpora </a:t>
            </a:r>
            <a:br>
              <a:rPr sz="3200"/>
            </a:b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a koordinace dobré praxe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2205000"/>
            <a:ext cx="8748720" cy="3960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Tři hlavní navrhované nástro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1. Zavede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procesu bran“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a posílení osobní odpovědnos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každý větší nákup kontrolován v kritických fázích nákupního cyk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s jednoznačnou individuální odpovědností tzv. odpovědné osob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pro každý ná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2.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Zprovoznění systému centrálního zadávání v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obdobné řešení jako ve Velké Británii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overnment Procurement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Service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, Rakousku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undebeschaffung GmbH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 či v Německu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(</a:t>
            </a: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Geschäftsstelle Kaufhaus des Bundes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200" indent="-266040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3. On-line webový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stroj k ověření cen stavebních pra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8ED3-5318-43CB-AD26-2C2A3FE71D2E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3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Zástupný symbol pro obsah 2"/>
          <p:cNvSpPr/>
          <p:nvPr/>
        </p:nvSpPr>
        <p:spPr>
          <a:xfrm>
            <a:off x="395280" y="2349360"/>
            <a:ext cx="83534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5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924360" cy="2644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1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8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946C-6F99-4341-8EC6-CD228AD023B3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90" name="Zástupný symbol pro obsah 2"/>
          <p:cNvSpPr/>
          <p:nvPr/>
        </p:nvSpPr>
        <p:spPr>
          <a:xfrm>
            <a:off x="395280" y="1766880"/>
            <a:ext cx="83534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rincip nezávislé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„kontroly čtyř očí“ v kritických fázích nákupního cyklu: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„</a:t>
            </a:r>
            <a:r>
              <a:rPr b="0" i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nákup (projekt) může jít dál, jen pokud projde branou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Předpoklad 4 bran pro významné VZ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(ve smyslu návrhu novely ZVZ)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1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Zámě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2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Projek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3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Výběr dodavatel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Brána 4: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Audit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2CD0-0131-4DEC-AF8D-6F0C9019573C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Obrázek 6" descr="stan.gif"/>
          <p:cNvPicPr/>
          <p:nvPr/>
        </p:nvPicPr>
        <p:blipFill>
          <a:blip r:embed="rId3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grpSp>
        <p:nvGrpSpPr>
          <p:cNvPr id="93" name="Skupina 2"/>
          <p:cNvGrpSpPr/>
          <p:nvPr/>
        </p:nvGrpSpPr>
        <p:grpSpPr>
          <a:xfrm>
            <a:off x="3419640" y="5877000"/>
            <a:ext cx="2885760" cy="520200"/>
            <a:chOff x="3419640" y="5877000"/>
            <a:chExt cx="2885760" cy="520200"/>
          </a:xfrm>
        </p:grpSpPr>
        <p:sp>
          <p:nvSpPr>
            <p:cNvPr id="94" name="Text Box 19"/>
            <p:cNvSpPr/>
            <p:nvPr/>
          </p:nvSpPr>
          <p:spPr>
            <a:xfrm>
              <a:off x="3419640" y="5877000"/>
              <a:ext cx="1936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cc0099"/>
                  </a:solidFill>
                  <a:latin typeface="Arial"/>
                </a:rPr>
                <a:t>B3: Před výběrem dodavatele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5" name="AutoShape 21"/>
            <p:cNvSpPr/>
            <p:nvPr/>
          </p:nvSpPr>
          <p:spPr>
            <a:xfrm>
              <a:off x="5513400" y="6002280"/>
              <a:ext cx="792000" cy="311040"/>
            </a:xfrm>
            <a:prstGeom prst="rightArrow">
              <a:avLst>
                <a:gd name="adj1" fmla="val 50000"/>
                <a:gd name="adj2" fmla="val 52529"/>
              </a:avLst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strips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3440" cy="10479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10065"/>
                </a:solidFill>
                <a:latin typeface="Georgia"/>
              </a:rPr>
              <a:t>Proces bran a důsledná individuální odpovědnost (2/2)</a:t>
            </a:r>
            <a:endParaRPr b="0" lang="en-US" sz="3200" spc="-1" strike="noStrike">
              <a:solidFill>
                <a:srgbClr val="1469af"/>
              </a:solidFill>
              <a:latin typeface="Arial"/>
            </a:endParaRPr>
          </a:p>
        </p:txBody>
      </p:sp>
      <p:sp>
        <p:nvSpPr>
          <p:cNvPr id="97" name="Zástupný symbol pro zápatí 3"/>
          <p:cNvSpPr/>
          <p:nvPr/>
        </p:nvSpPr>
        <p:spPr>
          <a:xfrm>
            <a:off x="324000" y="630864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969696"/>
                </a:solidFill>
                <a:latin typeface="Georgia"/>
              </a:rPr>
              <a:t>Tisková konference, Praha, 23. srpna 2011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4C3B-8A43-4ED4-8E1D-687FB4DC8C61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9" name="Obrázek 6" descr="stan.gif"/>
          <p:cNvPicPr/>
          <p:nvPr/>
        </p:nvPicPr>
        <p:blipFill>
          <a:blip r:embed="rId1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Zástupný symbol pro obsah 2"/>
          <p:cNvSpPr/>
          <p:nvPr/>
        </p:nvSpPr>
        <p:spPr>
          <a:xfrm>
            <a:off x="395280" y="1916280"/>
            <a:ext cx="8353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2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Jmenování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oponentů nákupů v jednotlivých branách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(garance nezávislosti) - předpoklad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NK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3520" indent="-262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část vláda Č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Osobní odpovědnost tzv. 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odpovědných osob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 (fyzických osob)</a:t>
            </a:r>
            <a:r>
              <a:rPr b="1" lang="cs-CZ" sz="2200" spc="-1" strike="noStrike">
                <a:solidFill>
                  <a:srgbClr val="000000"/>
                </a:solidFill>
                <a:latin typeface="Georgia"/>
              </a:rPr>
              <a:t> jako nositelů odpovědnosti za konkrétní nákup „od začátku do konce“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Zástupný symbol pro číslo snímku 4"/>
          <p:cNvSpPr/>
          <p:nvPr/>
        </p:nvSpPr>
        <p:spPr>
          <a:xfrm>
            <a:off x="8099280" y="6308640"/>
            <a:ext cx="72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B724-0344-484A-BD19-B3D17F66C326}" type="slidenum">
              <a:rPr b="0" lang="en-US" sz="1000" spc="-1" strike="noStrike">
                <a:solidFill>
                  <a:srgbClr val="96969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2" name="Obrázek 6" descr="stan.gif"/>
          <p:cNvPicPr/>
          <p:nvPr/>
        </p:nvPicPr>
        <p:blipFill>
          <a:blip r:embed="rId2"/>
          <a:stretch/>
        </p:blipFill>
        <p:spPr>
          <a:xfrm>
            <a:off x="5651640" y="0"/>
            <a:ext cx="1725480" cy="549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8:37:12Z</dcterms:created>
  <dc:creator>STAN</dc:creator>
  <dc:description/>
  <dc:language>en-US</dc:language>
  <cp:lastModifiedBy>JiriVanek</cp:lastModifiedBy>
  <dcterms:modified xsi:type="dcterms:W3CDTF">2011-08-23T11:34:36Z</dcterms:modified>
  <cp:revision>85</cp:revision>
  <dc:subject/>
  <dc:title>Zvýšení hospodárnosti nakupování veřejného sektoru v České republice  Hospodárnost na prvním místě</dc:title>
</cp:coreProperties>
</file>