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0A4DB-8EA1-433E-A071-82FF57E54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A1CD-B091-4753-B13D-22A9304B9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E0F7-4980-407B-AF37-6735DED33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9D01A-5D99-41F2-BD40-C235CA7E51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25A3-D778-439A-A725-44D07F717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A3DE-6AB2-451E-8512-99407FAA9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58C2-C6E6-44A7-A677-B17A9F884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E633-6BF6-417D-899D-C7C3F7B24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353440" cy="59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82B5-02A8-456A-94C2-EC3FFFB3B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44C4-80BB-4DF9-861D-B3915910F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1280-49D4-41C0-A475-E14426342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99CA-8282-4524-AFB4-4FCC7D2E7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TOP09_sablona-PPT_1024x768_v1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69a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3640" y="6308280"/>
            <a:ext cx="7561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Georgia"/>
              </a:rPr>
              <a:t>Tento text upravíte v menu: Zobrazit / Záhlaví a zápatí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99280" y="6308280"/>
            <a:ext cx="7207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2111-4BAA-47D5-8E8D-1A13D3E1EC61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TOP09_sablona-PPT_1024x768_v1-1"/>
          <p:cNvPicPr/>
          <p:nvPr/>
        </p:nvPicPr>
        <p:blipFill>
          <a:blip r:embed="rId2"/>
          <a:srcRect l="0" t="15225" r="0" b="455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88D2-DAAD-4BBE-B8B7-D2BDE462971F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4880" y="-144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20480"/>
            <a:ext cx="8353440" cy="2631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Zvýšení hospodárnosti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nakupování veřejného sektoru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v České republice</a:t>
            </a:r>
            <a:br>
              <a:rPr sz="3200"/>
            </a:br>
            <a:br>
              <a:rPr sz="3200"/>
            </a:br>
            <a:r>
              <a:rPr b="1" lang="cs-CZ" sz="4000" spc="-1" strike="noStrike">
                <a:solidFill>
                  <a:srgbClr val="c10065"/>
                </a:solidFill>
                <a:latin typeface="Georgia"/>
                <a:ea typeface="Arial"/>
              </a:rPr>
              <a:t>Hospodárnost na prvním místě 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407628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á koruna hospodárně vynaložená veřejným sektorem může vést k lepší kvalitě života, vyšší zaměstnanosti, podpoře hospodářského růstu a konkurenceschopnosti českého průmyslu a stavebnictv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24000" y="6021360"/>
            <a:ext cx="4896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provoznění systému centrálního zadávání v ČR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2204640"/>
            <a:ext cx="8353440" cy="4357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lavní přínos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ízké ceny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(nejen pro stát, ale i další veřejné zadavatele) založené n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množstevních slev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úspora transakčních nákladů veřejného za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hospodárnosti nákupů veřejného sektoru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srovnání s referenčními cenami centrálního zadav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bchodní model: provize z prodeje (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amofinancování z realizovaných úspor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ejvětší přínos: pro malé zadavatel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zejména malé obce)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09FB-1C54-4434-99B8-A9D5BD3CB18D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7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On-line nástroj k ověření ce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tavebních prací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A547-0632-4C1E-9B39-8BF7FD78D1D8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Zástupný symbol pro obsah 2"/>
          <p:cNvSpPr/>
          <p:nvPr/>
        </p:nvSpPr>
        <p:spPr>
          <a:xfrm>
            <a:off x="468360" y="2276640"/>
            <a:ext cx="82072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tavební zakázky tvoří </a:t>
            </a:r>
            <a:r>
              <a:rPr b="1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ca 50% finanční hodnoty všech veřejných zakázek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ČR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zdroj: důvodová zpráva k nove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ložen na  stávajícím vládním návrhu na standardizaci výkazu výměru pro stavební zakázky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nový § 44 odst. 4 (d) ZVZ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, tj. …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…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vinnosti podat nabídky pro stavební práce s využitím výkazu výměr ve standardizované elektronické podobě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výše jednotkových cen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střednictvím on-line webového nástroje nákladových analýz (předpoklad zajištění ze strany akademické a vědecké obce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Cíle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FC1C-285A-41ED-BED1-6BD607B92F74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7" name="Zástupný symbol pro obsah 2"/>
          <p:cNvSpPr/>
          <p:nvPr/>
        </p:nvSpPr>
        <p:spPr>
          <a:xfrm>
            <a:off x="250920" y="2060640"/>
            <a:ext cx="86421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Hospodárná transparentnos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soutěžního prostřed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prvků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hled na nejmenší zadavate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áklad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CB38-D7B4-4B0E-9CC4-BEA631257FDF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obsah 2"/>
          <p:cNvSpPr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ávrh novely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dceňuje transakční ná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které některá opatření přinesou 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řeceňuje přímé úspor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l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tudie EK z března 2011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náklady (veřejnéh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i soukromého sektoru) na zadávací řízení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 s hodnotou okolo 3 mil. Kč 18 až 29 % hodnoty zakázk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podíl transakčních nákladů cc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1,4% hodnoty všech zakázek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–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v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ČR cca 8,4 miliardy Kč (25% veřejné, 75% soukromé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utnost střízlivého ekonomického pohledu na návrhy opatření (důsledky zejména pro MSP) – každý návrh musí být hodnocen z hledisk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účelnosti, účinnosti a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Vybrané věcné návrhy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1453-0BCE-41C5-B695-C0099EFB39DF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7" name="Zástupný symbol pro obsah 2"/>
          <p:cNvSpPr/>
          <p:nvPr/>
        </p:nvSpPr>
        <p:spPr>
          <a:xfrm>
            <a:off x="214200" y="220500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Zjednodušení administrace zadávacího řízení podlimitních veřejných zakáze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evracení kauce při zamítnutí návrhu ÚOHS                  v 1. instanc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avázání účinnosti smluv na zveřejnění uzavřené smlouvy (Slovensko),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říp. jiné obdobně účinné řešen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transparentnosti veřejných zakázek malého rozsahu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uveřejnění oznámení o úmyslu zadat VZ a údajů o vybraném dodavateli, vzorový předpis pro zadavatel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e stanovení pravidel zadávání VZMR atd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TOP09_sablona-PPT_1024x768_v1-1"/>
          <p:cNvPicPr/>
          <p:nvPr/>
        </p:nvPicPr>
        <p:blipFill>
          <a:blip r:embed="rId2"/>
          <a:srcRect l="0" t="15225" r="0" b="2244"/>
          <a:stretch/>
        </p:blipFill>
        <p:spPr>
          <a:xfrm>
            <a:off x="0" y="0"/>
            <a:ext cx="9140760" cy="65977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AE32-FB74-4D14-9CF8-298C80097C47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1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1640" y="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428760" y="3357720"/>
            <a:ext cx="8353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Děkujeme za pozornost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 rot="20393400">
            <a:off x="492120" y="1703160"/>
            <a:ext cx="2651040" cy="3098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Proč hospodárnost veřejného nakupování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508464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de o „nemandatorní“ výd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íl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kvalita těchto výdajů by měla být co možná nejvyšš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1942-910D-4A29-9452-9E40C00517C4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1"/>
          <p:cNvSpPr/>
          <p:nvPr/>
        </p:nvSpPr>
        <p:spPr>
          <a:xfrm>
            <a:off x="3635280" y="2817720"/>
            <a:ext cx="4753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600 mld. Kč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17% HDP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47CB-44EA-47E9-8392-D50D87FE5DFA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na to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2060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krát přemýšlej než jednou zadáš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ospodárnost v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šech fázích veřejného nakup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ůraz na optimální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měr užitné hodnoty a nákladů –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souzení ekonomických přínosů a nákladů životního cyklu, které splňuj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měřené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třeby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í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„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ummerů pro městskou policii“ není přiměřenou potře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levného zboží s krátkou životností (např.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levn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é cvičky) není obvykle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Výběr architekta jen podle kritéria nejnižší ceny není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8BDD-AD19-4295-AC23-3A1245D9C9C1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hospodárně zadávat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pic>
        <p:nvPicPr>
          <p:cNvPr id="63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457280" y="141912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" name="Picture 71" descr=""/>
          <p:cNvPicPr/>
          <p:nvPr/>
        </p:nvPicPr>
        <p:blipFill>
          <a:blip r:embed="rId3"/>
          <a:stretch/>
        </p:blipFill>
        <p:spPr>
          <a:xfrm>
            <a:off x="892080" y="2492280"/>
            <a:ext cx="7359840" cy="4111560"/>
          </a:xfrm>
          <a:prstGeom prst="rect">
            <a:avLst/>
          </a:prstGeom>
          <a:ln w="0">
            <a:noFill/>
          </a:ln>
        </p:spPr>
      </p:pic>
      <p:sp>
        <p:nvSpPr>
          <p:cNvPr id="66" name="Line 13"/>
          <p:cNvSpPr/>
          <p:nvPr/>
        </p:nvSpPr>
        <p:spPr>
          <a:xfrm>
            <a:off x="1692360" y="53737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2987640" y="55166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 Á K L A D 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84360" y="2276640"/>
            <a:ext cx="576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Line 17"/>
          <p:cNvSpPr/>
          <p:nvPr/>
        </p:nvSpPr>
        <p:spPr>
          <a:xfrm flipV="1">
            <a:off x="1476360" y="234900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jekt „Hospodárnost                                  na prvním místě“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2133720"/>
            <a:ext cx="8353440" cy="3155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ý projekt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pravovaný v kontextu novelizace zákona o veřejných zakázkách (ZV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Bude obsahovat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ěcné návrhy opatřen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rátkodobé  (1 rok) – do 31.12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třednědobé (2-3 roky) – do 30.6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é (5 let) – do 31.12.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plném rozsahu bude 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jekt představen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říjnu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D68-A1FE-4790-BE37-91E9E27D0D2B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ovela zákona o veřejných zakázek objektivně nemůže vyřešit všechny problémy veřejného nakupo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Musí být doplněna o komplexní řešení v rámci celého veřejného nakupování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astavení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smluvních standar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ytvoření a vynucování plnění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ekonom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ro měření ekonomických přínosů a nákladů nákup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dpora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techn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šetřících náklad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 životním cyk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sílení kvalitního a systémového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projektového řízení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nákupy realizované v předpokládaném čase a dle stanoveného rozpočt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3E5F-678E-4640-9267-9BD1B78B2701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353440" cy="1047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220500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 hlavní navrhované nást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1. 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procesu bran“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a posílení osobní odpovědno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ý větší nákup kontrolován v kritických fázích nákupního cyk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 jednoznačnou individuální odpovědností tzv. odpovědné osob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pro každý ná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2.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provoznění systému centrálního zadá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obdobné řešení jako ve Velké Británii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overnment Procurement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Service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, Rakousku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undebeschaffung Gmb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 či v Němec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eschäftsstelle Kaufhaus des Bundes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3. On-line webový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stroj k ověření cen stavebních pra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B13E-748F-4C2E-ACF8-E1926C2989A7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3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Zástupný symbol pro obsah 2"/>
          <p:cNvSpPr/>
          <p:nvPr/>
        </p:nvSpPr>
        <p:spPr>
          <a:xfrm>
            <a:off x="395280" y="2349360"/>
            <a:ext cx="8353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5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924360" cy="2644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7783-1268-4A99-B23C-C59F50602E08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90" name="Zástupný symbol pro obsah 2"/>
          <p:cNvSpPr/>
          <p:nvPr/>
        </p:nvSpPr>
        <p:spPr>
          <a:xfrm>
            <a:off x="395280" y="1766880"/>
            <a:ext cx="83534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incip nezávislé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kontroly čtyř očí“ v kritických fázích nákupního cyklu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„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(projekt) může jít dál, jen pokud projde branou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edpoklad 4 bran pro významné V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(ve smyslu návrhu novely ZVZ)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1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Zámě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2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Projek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3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Výběr dodavatel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4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Audi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0260-A884-47D0-AFB6-E0CDF558A583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grpSp>
        <p:nvGrpSpPr>
          <p:cNvPr id="93" name="Skupina 2"/>
          <p:cNvGrpSpPr/>
          <p:nvPr/>
        </p:nvGrpSpPr>
        <p:grpSpPr>
          <a:xfrm>
            <a:off x="3419640" y="5877000"/>
            <a:ext cx="2885760" cy="520200"/>
            <a:chOff x="3419640" y="5877000"/>
            <a:chExt cx="2885760" cy="520200"/>
          </a:xfrm>
        </p:grpSpPr>
        <p:sp>
          <p:nvSpPr>
            <p:cNvPr id="94" name="Text Box 19"/>
            <p:cNvSpPr/>
            <p:nvPr/>
          </p:nvSpPr>
          <p:spPr>
            <a:xfrm>
              <a:off x="3419640" y="5877000"/>
              <a:ext cx="193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cc0099"/>
                  </a:solidFill>
                  <a:latin typeface="Arial"/>
                </a:rPr>
                <a:t>B3: Před výběrem dodavatele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" name="AutoShape 21"/>
            <p:cNvSpPr/>
            <p:nvPr/>
          </p:nvSpPr>
          <p:spPr>
            <a:xfrm>
              <a:off x="5513400" y="6002280"/>
              <a:ext cx="792000" cy="311040"/>
            </a:xfrm>
            <a:prstGeom prst="rightArrow">
              <a:avLst>
                <a:gd name="adj1" fmla="val 50000"/>
                <a:gd name="adj2" fmla="val 52529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strips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9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796B-CF75-4521-9885-86B1ABBC2D5D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9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Zástupný symbol pro obsah 2"/>
          <p:cNvSpPr/>
          <p:nvPr/>
        </p:nvSpPr>
        <p:spPr>
          <a:xfrm>
            <a:off x="395280" y="1916280"/>
            <a:ext cx="8353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menová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ponentů nákupů v jednotlivých branách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garance nezávislosti) - předpoklad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NK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vláda Č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Osobní odpovědnost tzv.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dpovědných osob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fyzických osob)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 jako nositelů odpovědnosti za konkrétní nákup „od začátku do konce“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6209-669F-4027-8B48-989192B2C633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8:37:12Z</dcterms:created>
  <dc:creator>STAN</dc:creator>
  <dc:description/>
  <dc:language>en-US</dc:language>
  <cp:lastModifiedBy>JiriVanek</cp:lastModifiedBy>
  <dcterms:modified xsi:type="dcterms:W3CDTF">2011-08-23T11:34:36Z</dcterms:modified>
  <cp:revision>85</cp:revision>
  <dc:subject/>
  <dc:title>Zvýšení hospodárnosti nakupování veřejného sektoru v České republice  Hospodárnost na prvním místě</dc:title>
</cp:coreProperties>
</file>